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12.png" ContentType="image/png"/>
  <Override PartName="/ppt/media/image7.jpeg" ContentType="image/jpeg"/>
  <Override PartName="/ppt/media/image11.png" ContentType="image/png"/>
  <Override PartName="/ppt/media/image8.wmf" ContentType="image/x-wmf"/>
  <Override PartName="/ppt/media/image13.wmf" ContentType="image/x-wmf"/>
  <Override PartName="/ppt/media/image9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7EFE-0134-4E8D-A8A8-06FEF982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E79E-D4D7-4AEA-8F54-704691B2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43AE-DEDB-4B10-99E6-D7DDAFF3A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87E4-0D99-4699-94FA-EF963F535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3A6E-256E-4C31-A0BE-388FB7F5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7913-01B0-4793-9102-212D18BD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EC94-5BB5-48F9-A07B-9D7B0D8C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E271-399B-4562-A727-4D6458B9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B2B4-FAA6-43F4-83D2-D15942DA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08E1-22EC-49B5-BE2F-9459E907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66A4-690C-4AED-B32F-D29BB1DE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F1F8-F24C-4B72-BAAE-B83F59A5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9BFA-B536-499D-B7A4-94BD4A365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50states.com/hawaii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hyperlink" Target="http://bensguide.gpo.gov/3-5/state/hawaii.html" TargetMode="External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postcardsfrom.com/t1/000605.html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hyperlink" Target="http://www.postcardsfrom.com/stamp/stamp-hi.html" TargetMode="External"/><Relationship Id="rId5" Type="http://schemas.openxmlformats.org/officeDocument/2006/relationships/image" Target="../media/image13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380880"/>
            <a:ext cx="603900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492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awaii</a:t>
            </a:r>
            <a:endParaRPr b="0" lang="en-US" sz="1800" spc="1" strike="noStrike">
              <a:ln w="3492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5715000" y="4952880"/>
            <a:ext cx="3200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r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ember 20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029200"/>
            <a:ext cx="2666880" cy="1590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733920" y="55627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90720" y="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04920"/>
            <a:ext cx="259092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awaii So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10/7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50states.com/hawa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State name: Hawa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Capital: Honolu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Population: 1,211,5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Enter The Union: 50</a:t>
            </a:r>
            <a:r>
              <a:rPr b="0" lang="en-US" sz="3200" spc="-1" strike="noStrike" baseline="30000">
                <a:solidFill>
                  <a:srgbClr val="ff00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, August 21, 19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Motto: Ua mau ke ea o ka anio I ka pono (The life of the land is perpetuated in righteousn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Nickname: aloha state/ paradise of the pa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Flower: Pua Aloalo (Hibiscus Brackenrid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324480" y="228600"/>
            <a:ext cx="2311560" cy="1541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029200" y="83808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7621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51814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se are the beautiful plum trees in Hawa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1522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Bird: Nene (Hawaiian Goo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Song: Hawaii Ponoi / Hawaii’s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Meaning behind the name: Place of the gods, with particular reference to the g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Weather: Warm, Tropical, Sun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3782880" cy="3398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81280" y="5181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487692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This is a picture of the Hawaii state flower the hibisc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00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Hawaii: Map and State Flag"/>
          <p:cNvPicPr/>
          <p:nvPr/>
        </p:nvPicPr>
        <p:blipFill>
          <a:blip r:embed="rId1"/>
          <a:srcRect l="0" t="42112" r="0" b="0"/>
          <a:stretch/>
        </p:blipFill>
        <p:spPr>
          <a:xfrm>
            <a:off x="5029200" y="1752480"/>
            <a:ext cx="3733920" cy="2919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Hawaii: Map and State Flag"/>
          <p:cNvPicPr/>
          <p:nvPr/>
        </p:nvPicPr>
        <p:blipFill>
          <a:blip r:embed="rId2"/>
          <a:srcRect l="0" t="0" r="0" b="60398"/>
          <a:stretch/>
        </p:blipFill>
        <p:spPr>
          <a:xfrm>
            <a:off x="380880" y="304920"/>
            <a:ext cx="3810240" cy="2038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172200" y="17524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Hawa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952880"/>
            <a:ext cx="6477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’s Guide to U.S. Governmen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Quick Facts Hawaii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ptember 22 201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ensguide.gpo.gov/3-5/state/hawaii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609480" y="2590920"/>
            <a:ext cx="1828800" cy="1663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19320" y="42670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48320" y="4572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This is a picture of the Hawaii fla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97180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This is a picture of some things that you can see in Hawa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5105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This is a picture of the state Hawa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50000">
              <a:srgbClr val="99ccff"/>
            </a:gs>
            <a:gs pos="100000">
              <a:srgbClr val="ff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All images Copyright © 1997 - 2000 WriteLine. All Rights Reserved."/>
          <p:cNvPicPr/>
          <p:nvPr/>
        </p:nvPicPr>
        <p:blipFill>
          <a:blip r:embed="rId1"/>
          <a:stretch/>
        </p:blipFill>
        <p:spPr>
          <a:xfrm>
            <a:off x="0" y="279360"/>
            <a:ext cx="7772400" cy="5181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600200" y="5489640"/>
            <a:ext cx="411480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cards From America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ate Capitol Honolulu H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9/23/2010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stcardsfrom.com/t1/000605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96080" y="2209680"/>
            <a:ext cx="144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his is a picture symbolizing things like palm trees, the island state, and volcanoes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0000cc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© 2000 WriteLine. Hibiscus"/>
          <p:cNvPicPr/>
          <p:nvPr/>
        </p:nvPicPr>
        <p:blipFill>
          <a:blip r:embed="rId1"/>
          <a:stretch/>
        </p:blipFill>
        <p:spPr>
          <a:xfrm>
            <a:off x="228600" y="2286000"/>
            <a:ext cx="1952640" cy="2190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© 2000 WriteLine. Hawaiian Goose"/>
          <p:cNvPicPr/>
          <p:nvPr/>
        </p:nvPicPr>
        <p:blipFill>
          <a:blip r:embed="rId2"/>
          <a:stretch/>
        </p:blipFill>
        <p:spPr>
          <a:xfrm>
            <a:off x="1219320" y="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© 2000 WriteLine. Kukui Candlenut tree"/>
          <p:cNvPicPr/>
          <p:nvPr/>
        </p:nvPicPr>
        <p:blipFill>
          <a:blip r:embed="rId3"/>
          <a:stretch/>
        </p:blipFill>
        <p:spPr>
          <a:xfrm>
            <a:off x="6858000" y="304920"/>
            <a:ext cx="1838160" cy="2190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85800" y="5410080"/>
            <a:ext cx="6705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from America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awaii State Stam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9/22/201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postcardsfrom.com/stamp/stamp-hi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3733920" y="1447920"/>
            <a:ext cx="2620800" cy="2805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343400" y="1295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45720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This is a picture of the state flower the hibisc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This is two pictures of the state bird the N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86600" y="29718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This is a picture of the state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21:44Z</dcterms:created>
  <dc:creator>install</dc:creator>
  <dc:description/>
  <dc:language>en-US</dc:language>
  <cp:lastModifiedBy>install</cp:lastModifiedBy>
  <dcterms:modified xsi:type="dcterms:W3CDTF">2010-10-14T13:19:56Z</dcterms:modified>
  <cp:revision>13</cp:revision>
  <dc:subject/>
  <dc:title>Slide 1</dc:title>
</cp:coreProperties>
</file>